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E90E-0CC6-45D3-8541-EB8A9A7B9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5D07-1750-424E-976D-73A0454F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18A-D1A8-4376-9688-A5213B7D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683-EF8C-494B-AEDB-B2C23F83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095-5096-44CB-9E86-D3987451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DE8-1AD8-429A-8FC9-B9FE3FFD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FF6-CBBC-4EFA-9F19-0FEEFF1D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1EC-7B8D-4927-A380-B2C213B1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FEC-3AF6-44E2-B5D2-E1D74E1A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0AE-BEA3-4FCD-8195-7F382884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59E-E9C0-42BD-9968-7F381C41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315-5D26-494C-ACB2-C686D01D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5C7-F6EE-419E-8F34-EFDAEAB6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E30-1FA8-42DF-9E8E-7E5EA652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8D21-46F6-424E-9BDC-962AFE5E1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please.com/atlas/country/lebanon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Map of Lebanon">
            <a:hlinkClick r:id="rId2"/>
          </p:cNvPr>
          <p:cNvPicPr/>
          <p:nvPr/>
        </p:nvPicPr>
        <p:blipFill>
          <a:blip r:embed="rId3"/>
          <a:srcRect l="12000" t="0" r="9512" b="19459"/>
          <a:stretch/>
        </p:blipFill>
        <p:spPr>
          <a:xfrm>
            <a:off x="3657600" y="1371600"/>
            <a:ext cx="2743200" cy="241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http://www.lib.utexas.edu/maps/middle_east_and_asia/middle_east_pol_1976.jpg"/>
          <p:cNvPicPr/>
          <p:nvPr/>
        </p:nvPicPr>
        <p:blipFill>
          <a:blip r:embed="rId4"/>
          <a:stretch/>
        </p:blipFill>
        <p:spPr>
          <a:xfrm>
            <a:off x="6134040" y="0"/>
            <a:ext cx="300996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0" y="1447920"/>
            <a:ext cx="3581280" cy="283716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i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ngu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lam 60%, Christianity 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teracy Rate: 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mestone, salt,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 flipV="1">
            <a:off x="457200" y="388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48520" y="2438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gion of Leba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Flag of Lebanon"/>
          <p:cNvPicPr/>
          <p:nvPr/>
        </p:nvPicPr>
        <p:blipFill>
          <a:blip r:embed="rId5"/>
          <a:stretch/>
        </p:blipFill>
        <p:spPr>
          <a:xfrm>
            <a:off x="0" y="0"/>
            <a:ext cx="2381400" cy="1467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2"/>
          <p:cNvSpPr/>
          <p:nvPr/>
        </p:nvSpPr>
        <p:spPr>
          <a:xfrm>
            <a:off x="2895480" y="457200"/>
            <a:ext cx="3048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LEBA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An awsome place to l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96252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of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http://www.un.int/wcm/webdav/site/lebanon/shared/images/Beyrouth.jpg"/>
          <p:cNvPicPr/>
          <p:nvPr/>
        </p:nvPicPr>
        <p:blipFill>
          <a:blip r:embed="rId6"/>
          <a:srcRect l="7253" t="3640" r="10536" b="12348"/>
          <a:stretch/>
        </p:blipFill>
        <p:spPr>
          <a:xfrm>
            <a:off x="5791320" y="3352680"/>
            <a:ext cx="292896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7"/>
          <p:cNvSpPr/>
          <p:nvPr/>
        </p:nvSpPr>
        <p:spPr>
          <a:xfrm>
            <a:off x="5486400" y="5410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Beautiful Country of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http://www.paragkhanna.com/wp-content/uploads/2010/12/lebanon-1.jpg"/>
          <p:cNvPicPr/>
          <p:nvPr/>
        </p:nvPicPr>
        <p:blipFill>
          <a:blip r:embed="rId7"/>
          <a:srcRect l="10300" t="0" r="12449" b="47200"/>
          <a:stretch/>
        </p:blipFill>
        <p:spPr>
          <a:xfrm>
            <a:off x="0" y="396252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09480" y="62485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Snowy Mountains in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6488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Cody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16"/>
          <p:cNvCxnSpPr/>
          <p:nvPr/>
        </p:nvCxnSpPr>
        <p:spPr>
          <a:xfrm flipH="1" flipV="1">
            <a:off x="7009560" y="1294560"/>
            <a:ext cx="30564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17"/>
          <p:cNvSpPr/>
          <p:nvPr/>
        </p:nvSpPr>
        <p:spPr>
          <a:xfrm>
            <a:off x="739152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http://t0.gstatic.com/images?q=tbn:ANd9GcQP_61xXFrggd6TTIXV4Q5GUv81SY0jdTz8CFc3IIm4FERPZM3bnw"/>
          <p:cNvPicPr/>
          <p:nvPr/>
        </p:nvPicPr>
        <p:blipFill>
          <a:blip r:embed="rId8"/>
          <a:stretch/>
        </p:blipFill>
        <p:spPr>
          <a:xfrm>
            <a:off x="2743200" y="3886200"/>
            <a:ext cx="2895480" cy="1581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7"/>
          <p:cNvSpPr/>
          <p:nvPr/>
        </p:nvSpPr>
        <p:spPr>
          <a:xfrm>
            <a:off x="274320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Cinquante=-money in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21:28:38Z</dcterms:modified>
  <cp:revision>26</cp:revision>
  <dc:subject/>
  <dc:title>Slide 1</dc:title>
</cp:coreProperties>
</file>